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ct" ContentType="image/x-pict"/>
  <Override PartName="/ppt/media/image9.png" ContentType="image/pn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29-BD8C-4D71-8DAC-282FDED6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CF2-414C-428E-8B5F-6B9B3CE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36E-1236-4888-8C57-C05A2E8D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593-CAEC-4146-93E9-A291662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605-2B59-48BC-BE88-DD2352E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605-0350-468D-AFC6-5A829CE4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2A7-9DD9-4D09-AADF-F4BA154F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2E1-9FA4-4A49-8115-379BD455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7A0-B69C-41E9-B0B8-5398EA3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B29-5089-4673-8698-DE55931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C57-0BCD-47F5-B036-47CD409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2AA-3A37-4E2D-8013-4B3122D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E42-DE9D-4558-AB0E-847F5938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12960" y="2285640"/>
            <a:ext cx="101725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e With Powerpo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with a little eX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440" y="6326280"/>
            <a:ext cx="520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a.m. enterpr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3714840"/>
            <a:ext cx="32176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120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8800" y="2004840"/>
            <a:ext cx="9145440" cy="558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975880" y="3308400"/>
            <a:ext cx="803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940120"/>
            <a:ext cx="546084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2725560"/>
            <a:ext cx="14479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3800" y="3511440"/>
            <a:ext cx="14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etric Measurem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Tam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662940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Quick &amp; Easy PowerPoint Activities by Tammy Worc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ons Technology in Education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er is about the size of a yardstick plus one piece of ch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70080" y="4317840"/>
            <a:ext cx="6265440" cy="338040"/>
            <a:chOff x="1270080" y="4317840"/>
            <a:chExt cx="6265440" cy="338040"/>
          </a:xfrm>
        </p:grpSpPr>
        <p:sp>
          <p:nvSpPr>
            <p:cNvPr id="133" name=""/>
            <p:cNvSpPr/>
            <p:nvPr/>
          </p:nvSpPr>
          <p:spPr>
            <a:xfrm>
              <a:off x="1270080" y="4317840"/>
              <a:ext cx="6265440" cy="338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3928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88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80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47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168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47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939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3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7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019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1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410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0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794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90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8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874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569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26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53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649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033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73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24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16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1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04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196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9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3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275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7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663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355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50280" y="4638600"/>
            <a:ext cx="314496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yard = 36 in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70080" y="5504040"/>
            <a:ext cx="6941520" cy="337680"/>
            <a:chOff x="1270080" y="5504040"/>
            <a:chExt cx="6941520" cy="337680"/>
          </a:xfrm>
        </p:grpSpPr>
        <p:sp>
          <p:nvSpPr>
            <p:cNvPr id="173" name=""/>
            <p:cNvSpPr/>
            <p:nvPr/>
          </p:nvSpPr>
          <p:spPr>
            <a:xfrm>
              <a:off x="1270080" y="5504040"/>
              <a:ext cx="6941520" cy="337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72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5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27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203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82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958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830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70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584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460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339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15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87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66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84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717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596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72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44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23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09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974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54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729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601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80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356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23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111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86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58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738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613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368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244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116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50280" y="5842080"/>
            <a:ext cx="383076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meter = 39.37  in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35880" y="4572000"/>
            <a:ext cx="592200" cy="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34440" y="4064040"/>
            <a:ext cx="10252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h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ntimeter is about the width of a sugar c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99080" y="4572000"/>
            <a:ext cx="1143000" cy="11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9040" y="4910040"/>
            <a:ext cx="1005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Kil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little more than a half 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0160" y="53341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0016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0016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7820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5624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65800" y="56959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5816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584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788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1392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0596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M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7996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5 M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2160" y="491004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41920" y="4487760"/>
            <a:ext cx="1861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Kilo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07880" y="5672160"/>
            <a:ext cx="16362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622 m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logram weighs a little more than 2 cans of be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4040" y="4317840"/>
            <a:ext cx="1355760" cy="2370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02080" y="4317840"/>
            <a:ext cx="1355760" cy="2370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30600" y="5232240"/>
            <a:ext cx="19821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kilogram 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2 pou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weighs about as much as a paper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504040" y="3809880"/>
            <a:ext cx="8236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245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09640" y="1935000"/>
            <a:ext cx="7689960" cy="567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8720" y="2674800"/>
            <a:ext cx="1398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if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79560" y="3511440"/>
            <a:ext cx="13874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35320" y="2914560"/>
            <a:ext cx="1314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2819520"/>
            <a:ext cx="30016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54864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hryn Mye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172200"/>
            <a:ext cx="5952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yers@richmond.k12.va.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8499600" cy="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781680" y="533520"/>
          <a:ext cx="205740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33520"/>
                    <a:ext cx="2057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38080" y="2438280"/>
            <a:ext cx="7086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itewithppt.wikispaces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38040" y="762120"/>
            <a:ext cx="1863720" cy="1100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7880" y="5164200"/>
            <a:ext cx="1184400" cy="110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7880" y="1862280"/>
            <a:ext cx="1184400" cy="110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2963880"/>
            <a:ext cx="118440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7880" y="4064040"/>
            <a:ext cx="118440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7880" y="6265800"/>
            <a:ext cx="11844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2280" y="626580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6265800"/>
            <a:ext cx="11858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33960" y="6265800"/>
            <a:ext cx="1184040" cy="1100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8000" y="6265800"/>
            <a:ext cx="11858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8000" y="5164200"/>
            <a:ext cx="1185840" cy="110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8000" y="406404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8000" y="2963880"/>
            <a:ext cx="118584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8000" y="1862280"/>
            <a:ext cx="1185840" cy="110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8000" y="762120"/>
            <a:ext cx="11858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03840" y="762120"/>
            <a:ext cx="1186200" cy="1100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90040" y="76212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74080" y="762120"/>
            <a:ext cx="118584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0" y="2540160"/>
            <a:ext cx="24782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cabular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ol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27920" y="3218040"/>
            <a:ext cx="3131640" cy="1777320"/>
            <a:chOff x="7027920" y="3218040"/>
            <a:chExt cx="3131640" cy="1777320"/>
          </a:xfrm>
        </p:grpSpPr>
        <p:sp>
          <p:nvSpPr>
            <p:cNvPr id="272" name=""/>
            <p:cNvSpPr/>
            <p:nvPr/>
          </p:nvSpPr>
          <p:spPr>
            <a:xfrm>
              <a:off x="7112520" y="3556080"/>
              <a:ext cx="2877480" cy="11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27920" y="3218040"/>
              <a:ext cx="3131640" cy="177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9821880" y="990720"/>
            <a:ext cx="1015920" cy="677880"/>
          </a:xfrm>
          <a:prstGeom prst="rightArrow">
            <a:avLst>
              <a:gd name="adj1" fmla="val 50000"/>
              <a:gd name="adj2" fmla="val 374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76212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5840" y="4064040"/>
            <a:ext cx="118440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5840" y="762120"/>
            <a:ext cx="11844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85840" y="1862280"/>
            <a:ext cx="1184400" cy="110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85840" y="2963880"/>
            <a:ext cx="118440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5840" y="5164200"/>
            <a:ext cx="1184400" cy="110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5840" y="6265800"/>
            <a:ext cx="118440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0240" y="626580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56080" y="6265800"/>
            <a:ext cx="118584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1920" y="6265800"/>
            <a:ext cx="11840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1920" y="5164200"/>
            <a:ext cx="1184040" cy="110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41920" y="4064040"/>
            <a:ext cx="118404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41920" y="296388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41920" y="1862280"/>
            <a:ext cx="1184040" cy="110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41920" y="762120"/>
            <a:ext cx="11840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5960" y="762120"/>
            <a:ext cx="11862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12160" y="76212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0" y="762120"/>
            <a:ext cx="11840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58160" y="4064040"/>
            <a:ext cx="1863720" cy="11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98000" y="296388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98000" y="1862280"/>
            <a:ext cx="1184040" cy="110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70240" y="2963880"/>
            <a:ext cx="118584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56080" y="296388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24040" y="3218040"/>
            <a:ext cx="762120" cy="591840"/>
          </a:xfrm>
          <a:prstGeom prst="rightArrow">
            <a:avLst>
              <a:gd name="adj1" fmla="val 50000"/>
              <a:gd name="adj2" fmla="val 321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218040"/>
            <a:ext cx="762120" cy="591840"/>
          </a:xfrm>
          <a:prstGeom prst="rightArrow">
            <a:avLst>
              <a:gd name="adj1" fmla="val 50000"/>
              <a:gd name="adj2" fmla="val 321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31940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-507960" y="998640"/>
            <a:ext cx="1015920" cy="677880"/>
          </a:xfrm>
          <a:prstGeom prst="rightArrow">
            <a:avLst>
              <a:gd name="adj1" fmla="val 50000"/>
              <a:gd name="adj2" fmla="val 374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ti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ntidr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s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, opposit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disre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07960" y="67788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, opposit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on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prew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68440" y="2077920"/>
            <a:ext cx="7550280" cy="345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23160" y="4272120"/>
            <a:ext cx="1109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819520"/>
            <a:ext cx="26319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ty Bit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4284720"/>
            <a:ext cx="2471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438280"/>
            <a:ext cx="27288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ain or 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e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un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0"/>
            <a:ext cx="10159920" cy="711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R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318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24080" y="3481560"/>
            <a:ext cx="391176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2e00"/>
                </a:solidFill>
                <a:latin typeface="Arial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ryn My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yers@richmond.k12.va.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933560"/>
            <a:ext cx="9145440" cy="568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75600" y="3295800"/>
            <a:ext cx="757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58000" y="3765600"/>
            <a:ext cx="1422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4880" y="2952720"/>
            <a:ext cx="13986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003480"/>
            <a:ext cx="548496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, You ar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05320" y="91440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cques Cartier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as T-riffic because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2800" y="429264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from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960" y="4919760"/>
            <a:ext cx="47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nted to colonize the New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5830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xplored the St. Lawrence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81600" y="2300400"/>
            <a:ext cx="2419200" cy="18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5840" y="96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67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3240" y="2077920"/>
            <a:ext cx="914580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7520" y="3168720"/>
            <a:ext cx="1434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61480" y="3333600"/>
            <a:ext cx="757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56480" y="3790800"/>
            <a:ext cx="1447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82960" y="3092400"/>
            <a:ext cx="54846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023320" y="5038560"/>
            <a:ext cx="2030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778040"/>
            <a:ext cx="3641760" cy="38941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5079960" cy="762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r. Gall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7996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016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8012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008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-846720" y="3978720"/>
            <a:ext cx="279396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3132720" y="3555000"/>
            <a:ext cx="279396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1862280" y="3301200"/>
            <a:ext cx="2793960" cy="42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507240" y="4233960"/>
            <a:ext cx="2793960" cy="42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079960" y="3726000"/>
            <a:ext cx="507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5587920"/>
            <a:ext cx="507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64200" y="1947960"/>
            <a:ext cx="49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5226840" y="954720"/>
            <a:ext cx="8031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5226840" y="6288840"/>
            <a:ext cx="8031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5226120" y="4341960"/>
            <a:ext cx="8049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5226120" y="2563920"/>
            <a:ext cx="8049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45020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5880" y="1015920"/>
            <a:ext cx="26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0200" y="651996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0200" y="465624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0200" y="287820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7794720" y="676656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7794720" y="592056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7625520" y="498852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7795440" y="405756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7711200" y="3126600"/>
            <a:ext cx="42516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7794720" y="236448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7878960" y="143244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7711200" y="332640"/>
            <a:ext cx="42516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872028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327360" y="954000"/>
            <a:ext cx="8031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6327360" y="6288120"/>
            <a:ext cx="8031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6326280" y="4340880"/>
            <a:ext cx="8049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6326280" y="2562840"/>
            <a:ext cx="8049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9065520" y="685152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9064800" y="600444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8895600" y="507348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9064800" y="414252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8981280" y="321048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9064800" y="244872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 rot="5400000">
            <a:off x="9150120" y="1517760"/>
            <a:ext cx="4237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5400000">
            <a:off x="8981280" y="41652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ark Wenberg</cp:lastModifiedBy>
  <dcterms:modified xsi:type="dcterms:W3CDTF">2008-11-04T13:20:14Z</dcterms:modified>
  <cp:revision>25</cp:revision>
  <dc:subject/>
  <dc:title>PowerPoint Presentation</dc:title>
</cp:coreProperties>
</file>